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A9D-DFF4-4D1D-9797-28E3F335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C16-9050-46FF-9F26-52C86D60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994-9AE5-46C9-8475-E6A7E746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7E7-31E1-4FA4-AE56-E4EB7BCC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E6E0-C339-4ABD-A9C0-B50F66F1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657F-74C9-4F07-8DB0-78D10C62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4A18-CE34-4ED7-B04C-815E5FD7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A883-D246-4C29-A7C0-8F055E29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8072-A89A-4525-B898-222D22D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7960-E562-4E9E-8190-7833085E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D8DD-0F82-4273-A9DC-F06FFD8D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4E4-F234-406B-9648-E13DE8C6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F804-B215-4ADC-94F1-88E63994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A945-148B-4EA9-BCAA-1EEAD31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0A88-968E-4558-8C85-EB2E7397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9379-7820-43DB-8CF2-5AC9F97D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B4EF-1B11-4958-906A-B6549D2A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D29-84E6-4F05-BA97-2D70CA6E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BBB-54C0-4185-9679-ECC656E4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B52-72B2-4954-87A9-7862B356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4DA-F922-4CF8-AEEF-F0982FFE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4E8-F3F1-4F91-AE02-0BE86E40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96D-4BEB-40F1-8252-605FA4B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8A3-074E-49A4-B356-BCF515C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8867-0E28-449D-8F12-77CCCADE781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E306-4745-4122-9006-0ABE1D2DCD9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wzrhuC4dXg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Scientific Revolution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review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rn World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it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ci. Rev. &amp; Enlighten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15997" r="0" b="15997"/>
          <a:stretch/>
        </p:blipFill>
        <p:spPr>
          <a:xfrm>
            <a:off x="2590920" y="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ientific Method 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n your group’s Venn Diagram handout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e your group’s answer: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hich situation is easier to predict -- soft drinks’ effects on your teeth OR how a teenager behaves at a party?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ll out the Venn Diagra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show AT LEAST TW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erenc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AT LEAST TW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milariti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between th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ciences and th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OCIAL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cien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35053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 Mapping” it o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oncept is a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road idea or them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: Discov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: Change over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oncept can also be a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ime period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: Scientific Revol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pp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a concept is one way to organize the information details we have learne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 Mapping” it o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“concept map” is different than regular notes because the map can take on a visual or creative quality that adds to our understanding of the concept. Sometimes we call this “non-linear” thinking.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1684440" cy="2362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23880" y="4648320"/>
            <a:ext cx="2286000" cy="990360"/>
          </a:xfrm>
          <a:prstGeom prst="cloudCallout">
            <a:avLst>
              <a:gd name="adj1" fmla="val 112500"/>
              <a:gd name="adj2" fmla="val -376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Hmm…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 think…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fore we start…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I’ll show you some EXAMPLES of concept map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will be in NEW groups.  Each group will get a Word Box, two sentence/idea starters, and 4 topic areas. 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Use these to help you brainstorm connection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r concept map should compare </a:t>
            </a:r>
            <a:r>
              <a:rPr b="1" i="1" lang="en-US" sz="2600" spc="-1" strike="noStrike">
                <a:solidFill>
                  <a:srgbClr val="eaeaea"/>
                </a:solidFill>
                <a:latin typeface="Arial"/>
              </a:rPr>
              <a:t>OLD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ways of thinking (medieval) to the </a:t>
            </a:r>
            <a:r>
              <a:rPr b="1" i="1" lang="en-US" sz="2600" spc="-1" strike="noStrike">
                <a:solidFill>
                  <a:srgbClr val="eaeaea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ways of thinking (Sci. Rev.), and most importantly, it should tell us why the changes are </a:t>
            </a:r>
            <a:r>
              <a:rPr b="1" i="1" lang="en-US" sz="2600" spc="-1" strike="noStrike">
                <a:solidFill>
                  <a:srgbClr val="eaeaea"/>
                </a:solidFill>
                <a:latin typeface="Arial"/>
              </a:rPr>
              <a:t>IMPORTANT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to society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N-Example #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t create another Venn Diagram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4956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N-Example #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t just draw a picture. You can INCLUDE pictures, but you need more than th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7242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1 – Flow Ch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882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1 – Flow Ch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95288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ample #2 – Comparison Tab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057400" y="1278000"/>
            <a:ext cx="509112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3 - Branch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35120"/>
            <a:ext cx="8153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st Week…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ooked at what people “knew” in the middle ages/medieval tim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found out NEW knowledge and ideas from the Scientific Revolu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agine what you’ll “know” tomorrow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ww.youtube.com/watch?v=JwzrhuC4dXg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5 – Basic We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8600" y="1847880"/>
            <a:ext cx="5638680" cy="3647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283440" y="2133720"/>
            <a:ext cx="2403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 #5 – Complex We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52480" y="1425600"/>
            <a:ext cx="56390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will we be grade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always, participating fully in the activity will be a big fact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7238880" y="4191120"/>
            <a:ext cx="1684440" cy="2361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657600" y="4952880"/>
            <a:ext cx="2362320" cy="1524240"/>
          </a:xfrm>
          <a:prstGeom prst="cloudCallout">
            <a:avLst>
              <a:gd name="adj1" fmla="val 92740"/>
              <a:gd name="adj2" fmla="val -55208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Hmm… what should I be doing right now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will we be grade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always, participating fully in the activity will be a big facto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r concept map will be graded according to a rubric. You will get your own copy to look at closer. Basically, you want to includ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Conten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Structure of a concept map, not just no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Exploring conne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Clear and creative presentation of inf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38880" y="3429000"/>
            <a:ext cx="15242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ept Mapping – How do we star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ach person needs one copy of the Word Bank (orange). The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ubric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is on the back. You do not need blank paper and markers ye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Start with 5-10 minutes of brainstorm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with an elbow buddy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do you know about these words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are some connections you can see right awa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there any words you do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recognize and need to look up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are your ideas for the concept map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n’t forget about the 2 Sentences/Idea starters and the 4 Topic Are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7620120" y="2438280"/>
            <a:ext cx="97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 Brain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connections do you know already? Example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are some words we don’t recognize? Can a classmate help us ou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 Map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CHOOSE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can work as a group or pair.  2-3 people only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can work on your own. 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CONCEPT MAPS ARE DUE AT THE END OF THE PERIOD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5428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2133720" y="3124080"/>
            <a:ext cx="542880" cy="762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3"/>
          <a:stretch/>
        </p:blipFill>
        <p:spPr>
          <a:xfrm>
            <a:off x="2971800" y="3200400"/>
            <a:ext cx="54288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542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 Maps – Go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64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OU CHOOSE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-316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ou can work as a group or pair.  2-3 people onl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-316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ou can work on your ow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OU DECIDE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-316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concept map format will work best for how you think? </a:t>
            </a:r>
            <a:br>
              <a:rPr sz="2000"/>
            </a:b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EX:  </a:t>
            </a: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Web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for “outside the box” thinkers     EX: </a:t>
            </a: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Flow Chart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for “linear/logical” think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-316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your plan for including all the information you will need? </a:t>
            </a:r>
            <a:br>
              <a:rPr sz="2000"/>
            </a:b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HINT HINT: Use your Word Bank sheet to star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NOW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you can take paper and markers </a:t>
            </a:r>
            <a:r>
              <a:rPr b="1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You can use more than one piece of pap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CEPT MAPS ARE DUE AT THE END OF THE PERIOD. You do have textbook homework that is due Thursday.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Use your time well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hapter 22, Section 2 (This Part 1 is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ONLY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pages 629-632).  Read and fill out guided notes for homework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U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THURSDAY, October 13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684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160" y="19051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How did people li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What did they belie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tron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c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248520" y="304920"/>
            <a:ext cx="2252520" cy="6095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-228960" y="9140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Life Before the 150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ientific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does one think rationally and find proof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SWER: Scientific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etho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36576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do we need a scientific “method”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52320" y="1905120"/>
            <a:ext cx="5410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can you OBSER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can you PRO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can you PREDIC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ientific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law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an be cre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994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act of Scientific Revolution: 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o wha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6019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880" y="1600200"/>
            <a:ext cx="78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deas spread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BEYOND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the world of physical scien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Hmm. If there can be laws about the physical world…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4802" t="5335" r="5601" b="2224"/>
          <a:stretch/>
        </p:blipFill>
        <p:spPr>
          <a:xfrm>
            <a:off x="2133720" y="2438280"/>
            <a:ext cx="4647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act of Scientific Revolution: 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o wha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32000"/>
            <a:ext cx="350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 scientists and thinkers want to apply reason and the scientific method to ALL aspects of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CIAL scientists begin discussing laws that explain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human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behavi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6019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80880" y="2552760"/>
            <a:ext cx="4419720" cy="3162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30760" y="1600200"/>
            <a:ext cx="87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Maybe we can figure out other laws for how the world work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act of Scientific Revolution: 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So wha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5238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hysical Science AND Social Science encourage new ways of thinking about the worl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ves the way for a movement call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nlightenm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...and back to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THINKING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gain!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486400" y="4267080"/>
            <a:ext cx="1684440" cy="2362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0" y="6019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657600"/>
            <a:ext cx="2286000" cy="990720"/>
          </a:xfrm>
          <a:prstGeom prst="cloudCallout">
            <a:avLst>
              <a:gd name="adj1" fmla="val 105833"/>
              <a:gd name="adj2" fmla="val 62337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Hmm…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I think…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put this to the test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ientific Method Activity: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eth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Teenag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your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ney Villai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roups, complete the worksheet the best you ca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s = Evil Que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gs = Captain Hoo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eens = Queen of He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ks = Chesire C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ns = Big Bad Wol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9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nes = Malific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EP YOUR DISNEY VILLAIN CARD WITH YO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9:49:07Z</dcterms:created>
  <dc:creator>defaultuser</dc:creator>
  <dc:description/>
  <dc:language>en-US</dc:language>
  <cp:lastModifiedBy>MCPASD</cp:lastModifiedBy>
  <dcterms:modified xsi:type="dcterms:W3CDTF">2011-10-14T14:46:52Z</dcterms:modified>
  <cp:revision>54</cp:revision>
  <dc:subject/>
  <dc:title>The Scientific Revolution</dc:title>
</cp:coreProperties>
</file>